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0178-996F-4C88-8E16-CBAB867E30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C38D-CBEB-4342-99BE-A28AAA09AA98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FD04-5C47-443B-9605-7A0CF83BF6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142D-ABF4-43CD-9A9C-992AB6901D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5A91-CC0F-4997-B4F2-F6E429415C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4F2F-4203-45DA-8C26-72CE40AAE7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B3A0-55FB-4F95-9EB7-EF30A3AB7A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6E40-D65E-42F1-9D21-A8797D0B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A63C-3818-4B10-8B0A-65847133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D59-CFCD-4357-8164-356EEBD5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82CD-1778-4582-AB33-A74CCC4C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3A5-6EA9-4F5C-9811-5E6928C1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711-4552-4D4E-B0C7-42EE97D1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D08-5302-4075-B8C1-EBBCCE17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EA5-9224-43B9-A8C6-09AF0C3D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387-F64E-4B28-80CB-F8605A70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030-5401-4D1A-A401-A0DBEE3D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DE3B-0241-4667-A70E-5C11197B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3C1-B632-499E-866D-8ABA8A31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EDAE-B836-41AB-945F-7D2327EC70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352520" y="907920"/>
            <a:ext cx="6819840" cy="518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47040" cy="14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>
            <a:off x="1881360" y="2708280"/>
            <a:ext cx="5762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332000" y="1700280"/>
            <a:ext cx="648000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0560" y="2811600"/>
            <a:ext cx="5762880" cy="210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619280" y="1993680"/>
            <a:ext cx="59641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uter le morceau « nothing.mp3 » puis le jouer à la guitare. Que constatez-vous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s six cordes de la guitare, deux seulement sont accordées correct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u matériel et des documents fournis, proposer un protocole permettant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ifier que la corde de La et de Ré sont accord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nothing.mp3" descr=""/>
          <p:cNvPicPr/>
          <p:nvPr/>
        </p:nvPicPr>
        <p:blipFill>
          <a:blip r:embed="rId2"/>
          <a:stretch/>
        </p:blipFill>
        <p:spPr>
          <a:xfrm>
            <a:off x="4267080" y="4941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7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435400" y="1417680"/>
            <a:ext cx="6162480" cy="520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81040" y="981000"/>
            <a:ext cx="3619440" cy="160992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5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29440" cy="524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3666960" cy="164772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3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4360" y="344160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utilisant le document 5 (texte et schém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mple pour la corde de Mi gr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on joue la corde de Mi grave à la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ase, d’après le texte, on doit obtenir un La (donc un signal de fréquence 110Hz d’après le document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joue la corde de Mi avec un doigt en 5ème case, on fait l’acquisition du son avec Winoscillo et on regarde la position du pic fondamental sur le spec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lt;110 Hz, on tend la corde en tournant la méca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gt;110Hz, on détend la corde en tournant la mécanique dans l’autre s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répète l’opération pour les autres cordes en suivant le schéma four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détermine la fréquence fondamentale de la note attendue pour chaque corde à vide avec Winoscillo, en jouant cette note sur une autre corde accord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compare cette fréquence à celle de la corde à accorder avec Winosc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tend (ou on détend) la corde pour avoir la fréquence souhait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17"/>
          <p:cNvGrpSpPr/>
          <p:nvPr/>
        </p:nvGrpSpPr>
        <p:grpSpPr>
          <a:xfrm>
            <a:off x="2340000" y="1484280"/>
            <a:ext cx="3981600" cy="2077560"/>
            <a:chOff x="2340000" y="1484280"/>
            <a:chExt cx="3981600" cy="2077560"/>
          </a:xfrm>
        </p:grpSpPr>
        <p:pic>
          <p:nvPicPr>
            <p:cNvPr id="102" name="Image 6" descr="https://www.play-music.com/assets/accordage.png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39816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Ellipse 7"/>
            <p:cNvSpPr/>
            <p:nvPr/>
          </p:nvSpPr>
          <p:spPr>
            <a:xfrm>
              <a:off x="2771640" y="2492280"/>
              <a:ext cx="28872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lipse 9"/>
            <p:cNvSpPr/>
            <p:nvPr/>
          </p:nvSpPr>
          <p:spPr>
            <a:xfrm>
              <a:off x="5004000" y="270828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Connecteur droit avec flèche 11"/>
            <p:cNvCxnSpPr/>
            <p:nvPr/>
          </p:nvCxnSpPr>
          <p:spPr>
            <a:xfrm flipV="1">
              <a:off x="4571640" y="2925720"/>
              <a:ext cx="432360" cy="358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6" name="Connecteur droit avec flèche 12"/>
            <p:cNvCxnSpPr/>
            <p:nvPr/>
          </p:nvCxnSpPr>
          <p:spPr>
            <a:xfrm flipH="1" flipV="1">
              <a:off x="3060000" y="2781000"/>
              <a:ext cx="935640" cy="504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7" name="ZoneTexte 16"/>
            <p:cNvSpPr/>
            <p:nvPr/>
          </p:nvSpPr>
          <p:spPr>
            <a:xfrm>
              <a:off x="3852000" y="32853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ême 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Ellipse 9"/>
          <p:cNvSpPr/>
          <p:nvPr/>
        </p:nvSpPr>
        <p:spPr>
          <a:xfrm>
            <a:off x="2771640" y="213192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0"/>
          <p:cNvSpPr/>
          <p:nvPr/>
        </p:nvSpPr>
        <p:spPr>
          <a:xfrm>
            <a:off x="5000760" y="2320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506600" y="3086280"/>
            <a:ext cx="6119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accorder la corde de 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a corde de Ré accordé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joue la corde de Ré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, on a un Sol, on obtient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96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rde de Sol à vide doit donc donner f =196 Hz, si ce n’est pas le cas on tend ou détend la cor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Ellipse 7"/>
          <p:cNvSpPr/>
          <p:nvPr/>
        </p:nvSpPr>
        <p:spPr>
          <a:xfrm>
            <a:off x="2771640" y="1955880"/>
            <a:ext cx="289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9"/>
          <p:cNvSpPr/>
          <p:nvPr/>
        </p:nvSpPr>
        <p:spPr>
          <a:xfrm>
            <a:off x="4535640" y="2131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511280" y="3573360"/>
            <a:ext cx="633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S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Si en 4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ol,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247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7492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9" name="Ellipse 7"/>
          <p:cNvSpPr/>
          <p:nvPr/>
        </p:nvSpPr>
        <p:spPr>
          <a:xfrm>
            <a:off x="2771640" y="176040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9"/>
          <p:cNvSpPr/>
          <p:nvPr/>
        </p:nvSpPr>
        <p:spPr>
          <a:xfrm>
            <a:off x="5000760" y="19573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187280" y="35226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Mi aig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Mi aigu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i qui est à 330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148428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les six cordes accordées, on vérifie l’accordage avec le smartphone, l’accordeur électronique, ou en faisant le spectre de chaque note du morceau enregistré par l’élève sur Aud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DCIM\100SSCAM\S8300858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197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90600" y="1557360"/>
            <a:ext cx="8362800" cy="14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ésultat de recherche d'images pour &quot;guitare&quot;"/>
          <p:cNvPicPr/>
          <p:nvPr/>
        </p:nvPicPr>
        <p:blipFill>
          <a:blip r:embed="rId2"/>
          <a:stretch/>
        </p:blipFill>
        <p:spPr>
          <a:xfrm>
            <a:off x="1030320" y="3357720"/>
            <a:ext cx="7083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72388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52440" y="1989000"/>
            <a:ext cx="843912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"/>
          <p:cNvSpPr/>
          <p:nvPr/>
        </p:nvSpPr>
        <p:spPr>
          <a:xfrm>
            <a:off x="352440" y="4653000"/>
            <a:ext cx="8439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rqu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accordeur électronique ou l’application GuitarTuna pour Android est utilisée par l’enseignant pour vérifier l’accordage à la f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ût estimé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 euros par guitare (Conrad), 5 euros maximum par microphone,  15 euros pour un accordeur (pas indispe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guitares sont aussi utilisées en SL et MPS ainsi qu’en CP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38280" y="1500120"/>
            <a:ext cx="7867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0120" y="2162160"/>
            <a:ext cx="7943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7240" y="115920"/>
            <a:ext cx="72262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71520" y="1252440"/>
            <a:ext cx="66009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62080" y="1266840"/>
            <a:ext cx="6819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cteur droit 4"/>
          <p:cNvSpPr/>
          <p:nvPr/>
        </p:nvSpPr>
        <p:spPr>
          <a:xfrm>
            <a:off x="7093080" y="1700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èche gauche 8"/>
          <p:cNvSpPr/>
          <p:nvPr/>
        </p:nvSpPr>
        <p:spPr>
          <a:xfrm>
            <a:off x="6516720" y="1844640"/>
            <a:ext cx="703080" cy="856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e 9"/>
          <p:cNvGrpSpPr/>
          <p:nvPr/>
        </p:nvGrpSpPr>
        <p:grpSpPr>
          <a:xfrm>
            <a:off x="468360" y="1341360"/>
            <a:ext cx="8448480" cy="2238480"/>
            <a:chOff x="468360" y="1341360"/>
            <a:chExt cx="8448480" cy="223848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341360"/>
              <a:ext cx="8448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lèche gauche 10"/>
            <p:cNvSpPr/>
            <p:nvPr/>
          </p:nvSpPr>
          <p:spPr>
            <a:xfrm>
              <a:off x="6559560" y="1846080"/>
              <a:ext cx="704520" cy="856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03280" y="4292640"/>
            <a:ext cx="8440560" cy="24256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2"/>
          <p:cNvSpPr/>
          <p:nvPr/>
        </p:nvSpPr>
        <p:spPr>
          <a:xfrm>
            <a:off x="476280" y="3781440"/>
            <a:ext cx="66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 AVEC  LE  PROGRAMME  SPE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èche gauche 16"/>
          <p:cNvSpPr/>
          <p:nvPr/>
        </p:nvSpPr>
        <p:spPr>
          <a:xfrm>
            <a:off x="7812000" y="6381720"/>
            <a:ext cx="704880" cy="85680"/>
          </a:xfrm>
          <a:prstGeom prst="lef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Lycée Guy Mollet</dc:creator>
  <dc:description/>
  <dc:language>en-US</dc:language>
  <cp:lastModifiedBy>tazoumbait.f</cp:lastModifiedBy>
  <dcterms:modified xsi:type="dcterms:W3CDTF">2018-03-30T12:42:07Z</dcterms:modified>
  <cp:revision>86</cp:revision>
  <dc:subject/>
  <dc:title>Diapositive 1</dc:title>
</cp:coreProperties>
</file>